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8.pct" ContentType="image/x-pict"/>
  <Override PartName="/ppt/media/image10.jpeg" ContentType="image/jpeg"/>
  <Override PartName="/ppt/media/image7.pct" ContentType="image/x-pict"/>
  <Override PartName="/ppt/media/image6.pct" ContentType="image/x-pict"/>
  <Override PartName="/ppt/media/image15.jpeg" ContentType="image/jpeg"/>
  <Override PartName="/ppt/media/image13.png" ContentType="image/png"/>
  <Override PartName="/ppt/media/image11.jpeg" ContentType="image/jpeg"/>
  <Override PartName="/ppt/media/image5.pct" ContentType="image/x-pict"/>
  <Override PartName="/ppt/media/image12.png" ContentType="image/png"/>
  <Override PartName="/ppt/media/image4.pct" ContentType="image/x-pict"/>
  <Override PartName="/ppt/media/image3.jpeg" ContentType="image/jpeg"/>
  <Override PartName="/ppt/media/image26.jpeg" ContentType="image/jpeg"/>
  <Override PartName="/ppt/media/image23.png" ContentType="image/png"/>
  <Override PartName="/ppt/media/image20.pct" ContentType="image/x-pict"/>
  <Override PartName="/ppt/media/image22.png" ContentType="image/png"/>
  <Override PartName="/ppt/media/image21.png" ContentType="image/png"/>
  <Override PartName="/ppt/media/image18.png" ContentType="image/png"/>
  <Override PartName="/ppt/media/image17.pct" ContentType="image/x-pict"/>
  <Override PartName="/ppt/media/image19.pct" ContentType="image/x-pict"/>
  <Override PartName="/ppt/media/image14.jpeg" ContentType="image/jpeg"/>
  <Override PartName="/ppt/media/image16.jpeg" ContentType="image/jpeg"/>
  <Override PartName="/ppt/media/image1.pct" ContentType="image/x-pict"/>
  <Override PartName="/ppt/media/image24.pct" ContentType="image/x-pict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607-5F49-4E92-B964-6019DA4E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BB5-1B6C-4A4E-90AF-889299FF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13A-409D-4474-B515-BB48E1EA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F1B-B7D4-4E16-83D2-E0E9B661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E5B-DC29-47F9-9017-FC4F386B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4B3-B894-41DB-B501-F99CABC3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221-0AF1-4A1C-8F28-ED6409E4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149-5390-457B-AD6E-1CCDB567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5EF-4109-4750-BCF7-90C971B0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D23-BB45-4CC5-858D-B65F6547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DF7-411E-45DC-90E0-9D0C7E60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588-AF6C-479F-9F91-801B9F7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CA36-6F23-4BA5-9126-6A0498AD6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image" Target="../media/image7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jpeg"/><Relationship Id="rId3" Type="http://schemas.openxmlformats.org/officeDocument/2006/relationships/image" Target="../media/image6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1.jpeg"/><Relationship Id="rId15" Type="http://schemas.openxmlformats.org/officeDocument/2006/relationships/image" Target="../media/image12.png"/><Relationship Id="rId16" Type="http://schemas.openxmlformats.org/officeDocument/2006/relationships/image" Target="../media/image11.jpeg"/><Relationship Id="rId17" Type="http://schemas.openxmlformats.org/officeDocument/2006/relationships/image" Target="../media/image12.png"/><Relationship Id="rId18" Type="http://schemas.openxmlformats.org/officeDocument/2006/relationships/image" Target="../media/image11.jpeg"/><Relationship Id="rId19" Type="http://schemas.openxmlformats.org/officeDocument/2006/relationships/image" Target="../media/image13.png"/><Relationship Id="rId20" Type="http://schemas.openxmlformats.org/officeDocument/2006/relationships/image" Target="../media/image11.jpeg"/><Relationship Id="rId21" Type="http://schemas.openxmlformats.org/officeDocument/2006/relationships/image" Target="../media/image13.png"/><Relationship Id="rId22" Type="http://schemas.openxmlformats.org/officeDocument/2006/relationships/image" Target="../media/image11.jpeg"/><Relationship Id="rId23" Type="http://schemas.openxmlformats.org/officeDocument/2006/relationships/image" Target="../media/image13.png"/><Relationship Id="rId24" Type="http://schemas.openxmlformats.org/officeDocument/2006/relationships/image" Target="../media/image11.jpeg"/><Relationship Id="rId25" Type="http://schemas.openxmlformats.org/officeDocument/2006/relationships/image" Target="../media/image13.png"/><Relationship Id="rId26" Type="http://schemas.openxmlformats.org/officeDocument/2006/relationships/image" Target="../media/image11.jpeg"/><Relationship Id="rId27" Type="http://schemas.openxmlformats.org/officeDocument/2006/relationships/image" Target="../media/image13.png"/><Relationship Id="rId28" Type="http://schemas.openxmlformats.org/officeDocument/2006/relationships/image" Target="../media/image11.jpeg"/><Relationship Id="rId29" Type="http://schemas.openxmlformats.org/officeDocument/2006/relationships/image" Target="../media/image13.png"/><Relationship Id="rId30" Type="http://schemas.openxmlformats.org/officeDocument/2006/relationships/image" Target="../media/image11.jpeg"/><Relationship Id="rId31" Type="http://schemas.openxmlformats.org/officeDocument/2006/relationships/image" Target="../media/image13.png"/><Relationship Id="rId32" Type="http://schemas.openxmlformats.org/officeDocument/2006/relationships/image" Target="../media/image11.jpeg"/><Relationship Id="rId33" Type="http://schemas.openxmlformats.org/officeDocument/2006/relationships/image" Target="../media/image12.png"/><Relationship Id="rId34" Type="http://schemas.openxmlformats.org/officeDocument/2006/relationships/image" Target="../media/image11.jpeg"/><Relationship Id="rId35" Type="http://schemas.openxmlformats.org/officeDocument/2006/relationships/image" Target="../media/image12.png"/><Relationship Id="rId36" Type="http://schemas.openxmlformats.org/officeDocument/2006/relationships/image" Target="../media/image11.jpeg"/><Relationship Id="rId37" Type="http://schemas.openxmlformats.org/officeDocument/2006/relationships/image" Target="../media/image12.png"/><Relationship Id="rId38" Type="http://schemas.openxmlformats.org/officeDocument/2006/relationships/image" Target="../media/image11.jpeg"/><Relationship Id="rId39" Type="http://schemas.openxmlformats.org/officeDocument/2006/relationships/image" Target="../media/image12.png"/><Relationship Id="rId40" Type="http://schemas.openxmlformats.org/officeDocument/2006/relationships/image" Target="../media/image11.jpeg"/><Relationship Id="rId41" Type="http://schemas.openxmlformats.org/officeDocument/2006/relationships/image" Target="../media/image12.png"/><Relationship Id="rId42" Type="http://schemas.openxmlformats.org/officeDocument/2006/relationships/image" Target="../media/image11.jpeg"/><Relationship Id="rId43" Type="http://schemas.openxmlformats.org/officeDocument/2006/relationships/image" Target="../media/image12.png"/><Relationship Id="rId44" Type="http://schemas.openxmlformats.org/officeDocument/2006/relationships/image" Target="../media/image11.jpeg"/><Relationship Id="rId45" Type="http://schemas.openxmlformats.org/officeDocument/2006/relationships/image" Target="../media/image12.png"/><Relationship Id="rId46" Type="http://schemas.openxmlformats.org/officeDocument/2006/relationships/image" Target="../media/image11.jpeg"/><Relationship Id="rId47" Type="http://schemas.openxmlformats.org/officeDocument/2006/relationships/image" Target="../media/image12.png"/><Relationship Id="rId48" Type="http://schemas.openxmlformats.org/officeDocument/2006/relationships/image" Target="../media/image11.jpeg"/><Relationship Id="rId49" Type="http://schemas.openxmlformats.org/officeDocument/2006/relationships/image" Target="../media/image13.png"/><Relationship Id="rId50" Type="http://schemas.openxmlformats.org/officeDocument/2006/relationships/image" Target="../media/image11.jpeg"/><Relationship Id="rId51" Type="http://schemas.openxmlformats.org/officeDocument/2006/relationships/image" Target="../media/image13.png"/><Relationship Id="rId52" Type="http://schemas.openxmlformats.org/officeDocument/2006/relationships/image" Target="../media/image11.jpeg"/><Relationship Id="rId53" Type="http://schemas.openxmlformats.org/officeDocument/2006/relationships/image" Target="../media/image13.png"/><Relationship Id="rId54" Type="http://schemas.openxmlformats.org/officeDocument/2006/relationships/image" Target="../media/image11.jpeg"/><Relationship Id="rId55" Type="http://schemas.openxmlformats.org/officeDocument/2006/relationships/image" Target="../media/image13.png"/><Relationship Id="rId56" Type="http://schemas.openxmlformats.org/officeDocument/2006/relationships/image" Target="../media/image11.jpeg"/><Relationship Id="rId57" Type="http://schemas.openxmlformats.org/officeDocument/2006/relationships/image" Target="../media/image13.png"/><Relationship Id="rId58" Type="http://schemas.openxmlformats.org/officeDocument/2006/relationships/image" Target="../media/image11.jpeg"/><Relationship Id="rId59" Type="http://schemas.openxmlformats.org/officeDocument/2006/relationships/image" Target="../media/image13.png"/><Relationship Id="rId60" Type="http://schemas.openxmlformats.org/officeDocument/2006/relationships/image" Target="../media/image11.jpeg"/><Relationship Id="rId61" Type="http://schemas.openxmlformats.org/officeDocument/2006/relationships/image" Target="../media/image13.png"/><Relationship Id="rId62" Type="http://schemas.openxmlformats.org/officeDocument/2006/relationships/image" Target="../media/image11.jpeg"/><Relationship Id="rId63" Type="http://schemas.openxmlformats.org/officeDocument/2006/relationships/image" Target="../media/image13.png"/><Relationship Id="rId64" Type="http://schemas.openxmlformats.org/officeDocument/2006/relationships/image" Target="../media/image11.jpeg"/><Relationship Id="rId65" Type="http://schemas.openxmlformats.org/officeDocument/2006/relationships/image" Target="../media/image12.png"/><Relationship Id="rId66" Type="http://schemas.openxmlformats.org/officeDocument/2006/relationships/image" Target="../media/image11.jpeg"/><Relationship Id="rId67" Type="http://schemas.openxmlformats.org/officeDocument/2006/relationships/image" Target="../media/image12.png"/><Relationship Id="rId68" Type="http://schemas.openxmlformats.org/officeDocument/2006/relationships/image" Target="../media/image11.jpeg"/><Relationship Id="rId69" Type="http://schemas.openxmlformats.org/officeDocument/2006/relationships/image" Target="../media/image13.png"/><Relationship Id="rId70" Type="http://schemas.openxmlformats.org/officeDocument/2006/relationships/image" Target="../media/image2.png"/><Relationship Id="rId7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4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343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ATTIVAZIONE DEL CROMOSOMA X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 LA COMPENSAZIONE DEL DOSAGGI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15720" y="6075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7986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4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1660680"/>
            <a:ext cx="87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tre osservazioni ottenute da Mary Lyon nei sui esperimenti sui to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2895480"/>
            <a:ext cx="8076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mmine eterozigoti per un locus che determina il colore del pelo e che mappa sul cromosoma X presentano mantello a chiazze (anche il gatto ha questo tipo di fenotipo) e non un colore uniforme anche se intermedio rispetto ai due col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41148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fenotipo e’ diverso se si osserva una eterozigote i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o i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ran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4898880"/>
            <a:ext cx="8076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le macchie sono composte dei due colo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5477040"/>
            <a:ext cx="8076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le macchie sono o di un colore o dell’al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1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Esperimenti di Mary Lyon nei to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2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194520" y="3936960"/>
            <a:ext cx="183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70600" y="1828800"/>
            <a:ext cx="34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mmine omozigo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Br/GrGr pelo a macc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90720" y="1828800"/>
            <a:ext cx="837720" cy="1015920"/>
            <a:chOff x="990720" y="1828800"/>
            <a:chExt cx="837720" cy="1015920"/>
          </a:xfrm>
        </p:grpSpPr>
        <p:sp>
          <p:nvSpPr>
            <p:cNvPr id="331" name=""/>
            <p:cNvSpPr/>
            <p:nvPr/>
          </p:nvSpPr>
          <p:spPr>
            <a:xfrm>
              <a:off x="990720" y="1828800"/>
              <a:ext cx="228240" cy="990720"/>
            </a:xfrm>
            <a:prstGeom prst="can">
              <a:avLst>
                <a:gd name="adj" fmla="val 10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2125800"/>
              <a:ext cx="228240" cy="131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90720" y="2390760"/>
              <a:ext cx="228240" cy="131760"/>
            </a:xfrm>
            <a:prstGeom prst="rect">
              <a:avLst/>
            </a:prstGeom>
            <a:solidFill>
              <a:srgbClr val="b4b4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600200" y="1854360"/>
              <a:ext cx="228240" cy="990360"/>
              <a:chOff x="1600200" y="1854360"/>
              <a:chExt cx="228240" cy="990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600200" y="1854360"/>
                <a:ext cx="228240" cy="99036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00200" y="2151000"/>
                <a:ext cx="228240" cy="131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600200" y="2416320"/>
                <a:ext cx="228240" cy="131760"/>
              </a:xfrm>
              <a:prstGeom prst="rect">
                <a:avLst/>
              </a:prstGeom>
              <a:solidFill>
                <a:srgbClr val="b4b4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044800" y="1612800"/>
            <a:ext cx="2298600" cy="171792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-67680" y="3997440"/>
            <a:ext cx="4119120" cy="2707920"/>
            <a:chOff x="-67680" y="3997440"/>
            <a:chExt cx="4119120" cy="2707920"/>
          </a:xfrm>
        </p:grpSpPr>
        <p:grpSp>
          <p:nvGrpSpPr>
            <p:cNvPr id="340" name=""/>
            <p:cNvGrpSpPr/>
            <p:nvPr/>
          </p:nvGrpSpPr>
          <p:grpSpPr>
            <a:xfrm>
              <a:off x="2590920" y="5689440"/>
              <a:ext cx="838080" cy="1015920"/>
              <a:chOff x="2590920" y="5689440"/>
              <a:chExt cx="838080" cy="1015920"/>
            </a:xfrm>
          </p:grpSpPr>
          <p:sp>
            <p:nvSpPr>
              <p:cNvPr id="341" name=""/>
              <p:cNvSpPr/>
              <p:nvPr/>
            </p:nvSpPr>
            <p:spPr>
              <a:xfrm>
                <a:off x="2590920" y="5689440"/>
                <a:ext cx="228600" cy="99072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90920" y="5986440"/>
                <a:ext cx="228600" cy="131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90920" y="6251400"/>
                <a:ext cx="228600" cy="13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00400" y="5715000"/>
                <a:ext cx="228600" cy="99036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00400" y="6011640"/>
                <a:ext cx="228600" cy="13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200400" y="6276960"/>
                <a:ext cx="228600" cy="131760"/>
              </a:xfrm>
              <a:prstGeom prst="rect">
                <a:avLst/>
              </a:prstGeom>
              <a:solidFill>
                <a:srgbClr val="b4b4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4"/>
            <a:stretch/>
          </p:blipFill>
          <p:spPr>
            <a:xfrm>
              <a:off x="1752480" y="3997440"/>
              <a:ext cx="229896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-67680" y="4572000"/>
              <a:ext cx="2513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emmi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oppio eterozigo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rC/GrC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n tr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elo a macch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961520" y="3981600"/>
            <a:ext cx="4030200" cy="2723760"/>
            <a:chOff x="4961520" y="3981600"/>
            <a:chExt cx="4030200" cy="2723760"/>
          </a:xfrm>
        </p:grpSpPr>
        <p:grpSp>
          <p:nvGrpSpPr>
            <p:cNvPr id="350" name=""/>
            <p:cNvGrpSpPr/>
            <p:nvPr/>
          </p:nvGrpSpPr>
          <p:grpSpPr>
            <a:xfrm>
              <a:off x="7162920" y="5689440"/>
              <a:ext cx="838080" cy="1015920"/>
              <a:chOff x="7162920" y="5689440"/>
              <a:chExt cx="838080" cy="1015920"/>
            </a:xfrm>
          </p:grpSpPr>
          <p:sp>
            <p:nvSpPr>
              <p:cNvPr id="351" name=""/>
              <p:cNvSpPr/>
              <p:nvPr/>
            </p:nvSpPr>
            <p:spPr>
              <a:xfrm>
                <a:off x="7162920" y="5689440"/>
                <a:ext cx="228600" cy="99072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62920" y="5986440"/>
                <a:ext cx="228600" cy="131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72400" y="5715000"/>
                <a:ext cx="228600" cy="990360"/>
              </a:xfrm>
              <a:prstGeom prst="can">
                <a:avLst>
                  <a:gd name="adj" fmla="val 1073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772400" y="6011640"/>
                <a:ext cx="228600" cy="13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62920" y="6276960"/>
                <a:ext cx="228600" cy="131760"/>
              </a:xfrm>
              <a:prstGeom prst="rect">
                <a:avLst/>
              </a:prstGeom>
              <a:solidFill>
                <a:srgbClr val="b4b4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72400" y="6276960"/>
                <a:ext cx="228600" cy="131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7" name="" descr=""/>
            <p:cNvPicPr/>
            <p:nvPr/>
          </p:nvPicPr>
          <p:blipFill>
            <a:blip r:embed="rId5"/>
            <a:stretch/>
          </p:blipFill>
          <p:spPr>
            <a:xfrm>
              <a:off x="6705720" y="3981600"/>
              <a:ext cx="2286000" cy="17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961520" y="4572000"/>
              <a:ext cx="25138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emmi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oppio eterozigo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rC/GrC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n c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acchie di du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l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9000" y="9140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0"/>
                </a:solidFill>
                <a:latin typeface="Comic Sans MS"/>
              </a:rPr>
              <a:t>Mary Ly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9600" y="609480"/>
            <a:ext cx="9053640" cy="6019920"/>
            <a:chOff x="39600" y="609480"/>
            <a:chExt cx="9053640" cy="60199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9600" y="609480"/>
              <a:ext cx="186552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"/>
            <p:cNvGrpSpPr/>
            <p:nvPr/>
          </p:nvGrpSpPr>
          <p:grpSpPr>
            <a:xfrm>
              <a:off x="762120" y="1828800"/>
              <a:ext cx="8331120" cy="4800600"/>
              <a:chOff x="762120" y="1828800"/>
              <a:chExt cx="8331120" cy="4800600"/>
            </a:xfrm>
          </p:grpSpPr>
          <p:sp>
            <p:nvSpPr>
              <p:cNvPr id="363" name=""/>
              <p:cNvSpPr/>
              <p:nvPr/>
            </p:nvSpPr>
            <p:spPr>
              <a:xfrm>
                <a:off x="762120" y="1905120"/>
                <a:ext cx="8331120" cy="4724280"/>
              </a:xfrm>
              <a:prstGeom prst="verticalScroll">
                <a:avLst>
                  <a:gd name="adj" fmla="val 125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Uno dei due cromosomi X presenti nella line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somatic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femminile, viene precocement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inattivato durante lo sviluppo embrionale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L’inattivazione e’ casuale. Come risultato l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femmina e’ un mosaico di cellule funzionalment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emiziogoti per uno o l’altro dei cromosomi X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ella linea germinale sono entrambe atti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15960" y="1828800"/>
                <a:ext cx="442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Ipotesi di Mary Lyo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769608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67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800240" y="6858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Inattivazione del </a:t>
            </a:r>
            <a:br>
              <a:rPr sz="2800"/>
            </a:b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cromosoma X</a:t>
            </a:r>
            <a:br>
              <a:rPr sz="2800"/>
            </a:br>
            <a:r>
              <a:rPr b="1" lang="en-US" sz="2000" spc="-1" strike="noStrike">
                <a:solidFill>
                  <a:srgbClr val="ff0710"/>
                </a:solidFill>
                <a:latin typeface="Comic Sans MS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9080" y="762120"/>
            <a:ext cx="1028520" cy="838080"/>
          </a:xfrm>
          <a:custGeom>
            <a:avLst/>
            <a:gdLst>
              <a:gd name="textAreaLeft" fmla="*/ 234720 w 1028520"/>
              <a:gd name="textAreaRight" fmla="*/ 793800 w 102852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990720"/>
            <a:ext cx="152640" cy="38088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380880"/>
              <a:gd name="textAreaBottom" fmla="*/ 373680 h 380880"/>
            </a:gdLst>
            <a:ahLst/>
            <a:rect l="textAreaLeft" t="textAreaTop" r="textAreaRight" b="textAreaBottom"/>
            <a:pathLst>
              <a:path w="21600" h="53822">
                <a:moveTo>
                  <a:pt x="3600" y="0"/>
                </a:moveTo>
                <a:arcTo wR="3600" hR="3600" stAng="16200000" swAng="-5400000"/>
                <a:lnTo>
                  <a:pt x="0" y="50222"/>
                </a:lnTo>
                <a:arcTo wR="3600" hR="3600" stAng="10800000" swAng="-5400000"/>
                <a:lnTo>
                  <a:pt x="18000" y="53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71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0400" y="990720"/>
            <a:ext cx="152280" cy="38088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80880"/>
              <a:gd name="textAreaBottom" fmla="*/ 373680 h 38088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96440" y="6858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X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00920" y="68904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X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343400" y="2743200"/>
            <a:ext cx="4267080" cy="2476440"/>
            <a:chOff x="4343400" y="2743200"/>
            <a:chExt cx="4267080" cy="2476440"/>
          </a:xfrm>
        </p:grpSpPr>
        <p:sp>
          <p:nvSpPr>
            <p:cNvPr id="379" name=""/>
            <p:cNvSpPr/>
            <p:nvPr/>
          </p:nvSpPr>
          <p:spPr>
            <a:xfrm>
              <a:off x="7620120" y="422928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500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2468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24680" y="453384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992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2960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72400" y="392436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405612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77320" y="405612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7320" y="422928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4220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188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59520" y="453384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2476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6444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4440" y="483876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29680" y="497052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69360" y="497052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12160" y="422928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7704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16720" y="436104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16720" y="453384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8196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21640" y="466560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43400" y="2743200"/>
              <a:ext cx="327672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981240" y="3275280"/>
            <a:ext cx="2559240" cy="1830240"/>
            <a:chOff x="3981240" y="3275280"/>
            <a:chExt cx="2559240" cy="1830240"/>
          </a:xfrm>
        </p:grpSpPr>
        <p:sp>
          <p:nvSpPr>
            <p:cNvPr id="405" name=""/>
            <p:cNvSpPr/>
            <p:nvPr/>
          </p:nvSpPr>
          <p:spPr>
            <a:xfrm>
              <a:off x="5016600" y="41148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81480" y="42465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42465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6888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341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7380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7480" y="411480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62720" y="424656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02400" y="424656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2608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913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3100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78360" y="47242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4360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83280" y="485604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0696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7220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11880" y="4551480"/>
              <a:ext cx="79560" cy="17280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6800">
                  <a:moveTo>
                    <a:pt x="3600" y="0"/>
                  </a:moveTo>
                  <a:arcTo wR="3600" hR="3600" stAng="16200000" swAng="-5400000"/>
                  <a:lnTo>
                    <a:pt x="0" y="43200"/>
                  </a:lnTo>
                  <a:arcTo wR="3600" hR="3600" stAng="10800000" swAng="-5400000"/>
                  <a:lnTo>
                    <a:pt x="18000" y="46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21160" y="47242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8640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26080" y="485604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81240" y="3275280"/>
              <a:ext cx="1181160" cy="9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768760" y="3352680"/>
            <a:ext cx="1650960" cy="1905120"/>
            <a:chOff x="2768760" y="3352680"/>
            <a:chExt cx="1650960" cy="1905120"/>
          </a:xfrm>
        </p:grpSpPr>
        <p:sp>
          <p:nvSpPr>
            <p:cNvPr id="428" name=""/>
            <p:cNvSpPr/>
            <p:nvPr/>
          </p:nvSpPr>
          <p:spPr>
            <a:xfrm>
              <a:off x="3429000" y="42670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9424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3392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33920" y="45720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9880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3848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1280" y="39625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46520" y="40942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86200" y="40942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86200" y="42670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5144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9112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8760" y="45720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3364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7332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73320" y="48769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38560" y="50086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78240" y="50086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21040" y="42670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8628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25960" y="43988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5960" y="45720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30520" y="47037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76720" y="3352680"/>
              <a:ext cx="30456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62120" y="2544480"/>
            <a:ext cx="2484360" cy="2561040"/>
            <a:chOff x="762120" y="2544480"/>
            <a:chExt cx="2484360" cy="2561040"/>
          </a:xfrm>
        </p:grpSpPr>
        <p:sp>
          <p:nvSpPr>
            <p:cNvPr id="454" name=""/>
            <p:cNvSpPr/>
            <p:nvPr/>
          </p:nvSpPr>
          <p:spPr>
            <a:xfrm>
              <a:off x="762120" y="4114800"/>
              <a:ext cx="533160" cy="380880"/>
            </a:xfrm>
            <a:custGeom>
              <a:avLst/>
              <a:gdLst>
                <a:gd name="textAreaLeft" fmla="*/ 121680 w 533160"/>
                <a:gd name="textAreaRight" fmla="*/ 411480 w 53316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27000" y="42465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66680" y="4246560"/>
              <a:ext cx="79560" cy="173160"/>
            </a:xfrm>
            <a:custGeom>
              <a:avLst/>
              <a:gdLst>
                <a:gd name="textAreaLeft" fmla="*/ 3600 w 79560"/>
                <a:gd name="textAreaRight" fmla="*/ 75960 w 7956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6897">
                  <a:moveTo>
                    <a:pt x="3600" y="0"/>
                  </a:moveTo>
                  <a:arcTo wR="3600" hR="3600" stAng="16200000" swAng="-5400000"/>
                  <a:lnTo>
                    <a:pt x="0" y="43297"/>
                  </a:lnTo>
                  <a:arcTo wR="3600" hR="3600" stAng="10800000" swAng="-5400000"/>
                  <a:lnTo>
                    <a:pt x="18000" y="46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440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7964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193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411480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08240" y="424656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47920" y="424656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160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3684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765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3880" y="47242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8912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2480" y="4419720"/>
              <a:ext cx="533520" cy="38088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1772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57400" y="4551480"/>
              <a:ext cx="79200" cy="17280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2800"/>
                <a:gd name="textAreaBottom" fmla="*/ 169200 h 172800"/>
              </a:gdLst>
              <a:ahLst/>
              <a:rect l="textAreaLeft" t="textAreaTop" r="textAreaRight" b="textAreaBottom"/>
              <a:pathLst>
                <a:path w="21600" h="47012">
                  <a:moveTo>
                    <a:pt x="3600" y="0"/>
                  </a:moveTo>
                  <a:arcTo wR="3600" hR="3600" stAng="16200000" swAng="-5400000"/>
                  <a:lnTo>
                    <a:pt x="0" y="43412"/>
                  </a:lnTo>
                  <a:arcTo wR="3600" hR="3600" stAng="10800000" swAng="-5400000"/>
                  <a:lnTo>
                    <a:pt x="18000" y="470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66680" y="4724280"/>
              <a:ext cx="533520" cy="381240"/>
            </a:xfrm>
            <a:custGeom>
              <a:avLst/>
              <a:gdLst>
                <a:gd name="textAreaLeft" fmla="*/ 121680 w 533520"/>
                <a:gd name="textAreaRight" fmla="*/ 411840 w 53352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3192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71600" y="4856040"/>
              <a:ext cx="79200" cy="173160"/>
            </a:xfrm>
            <a:custGeom>
              <a:avLst/>
              <a:gdLst>
                <a:gd name="textAreaLeft" fmla="*/ 3600 w 79200"/>
                <a:gd name="textAreaRight" fmla="*/ 75600 w 79200"/>
                <a:gd name="textAreaTop" fmla="*/ 3600 h 173160"/>
                <a:gd name="textAreaBottom" fmla="*/ 169560 h 173160"/>
              </a:gdLst>
              <a:ahLst/>
              <a:rect l="textAreaLeft" t="textAreaTop" r="textAreaRight" b="textAreaBottom"/>
              <a:pathLst>
                <a:path w="21600" h="47110">
                  <a:moveTo>
                    <a:pt x="3600" y="0"/>
                  </a:moveTo>
                  <a:arcTo wR="3600" hR="3600" stAng="16200000" swAng="-5400000"/>
                  <a:lnTo>
                    <a:pt x="0" y="43510"/>
                  </a:lnTo>
                  <a:arcTo wR="3600" hR="3600" stAng="10800000" swAng="-5400000"/>
                  <a:lnTo>
                    <a:pt x="18000" y="47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630080" y="2544480"/>
              <a:ext cx="1616400" cy="161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395720" y="1752480"/>
            <a:ext cx="3099960" cy="1600200"/>
            <a:chOff x="1395720" y="1752480"/>
            <a:chExt cx="3099960" cy="1600200"/>
          </a:xfrm>
        </p:grpSpPr>
        <p:sp>
          <p:nvSpPr>
            <p:cNvPr id="477" name=""/>
            <p:cNvSpPr/>
            <p:nvPr/>
          </p:nvSpPr>
          <p:spPr>
            <a:xfrm>
              <a:off x="3200400" y="2286000"/>
              <a:ext cx="685800" cy="60948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65640" y="24652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32040" y="2465280"/>
              <a:ext cx="101880" cy="277920"/>
            </a:xfrm>
            <a:custGeom>
              <a:avLst/>
              <a:gdLst>
                <a:gd name="textAreaLeft" fmla="*/ 4680 w 101880"/>
                <a:gd name="textAreaRight" fmla="*/ 97200 w 10188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792">
                  <a:moveTo>
                    <a:pt x="3600" y="0"/>
                  </a:moveTo>
                  <a:arcTo wR="3600" hR="3600" stAng="16200000" swAng="-5400000"/>
                  <a:lnTo>
                    <a:pt x="0" y="55192"/>
                  </a:lnTo>
                  <a:arcTo wR="3600" hR="3600" stAng="10800000" swAng="-5400000"/>
                  <a:lnTo>
                    <a:pt x="18000" y="587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09880" y="2286000"/>
              <a:ext cx="685800" cy="60948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75120" y="24652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1880" y="24652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95480" y="2743200"/>
              <a:ext cx="685800" cy="60948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60720" y="29224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71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27480" y="29224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5320" y="2743200"/>
              <a:ext cx="685800" cy="609480"/>
            </a:xfrm>
            <a:custGeom>
              <a:avLst/>
              <a:gdLst>
                <a:gd name="textAreaLeft" fmla="*/ 156600 w 685800"/>
                <a:gd name="textAreaRight" fmla="*/ 529200 w 685800"/>
                <a:gd name="textAreaTop" fmla="*/ 138960 h 609480"/>
                <a:gd name="textAreaBottom" fmla="*/ 470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70200" y="2922480"/>
              <a:ext cx="101880" cy="277920"/>
            </a:xfrm>
            <a:custGeom>
              <a:avLst/>
              <a:gdLst>
                <a:gd name="textAreaLeft" fmla="*/ 4680 w 101880"/>
                <a:gd name="textAreaRight" fmla="*/ 97200 w 10188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792">
                  <a:moveTo>
                    <a:pt x="3600" y="0"/>
                  </a:moveTo>
                  <a:arcTo wR="3600" hR="3600" stAng="16200000" swAng="-5400000"/>
                  <a:lnTo>
                    <a:pt x="0" y="55192"/>
                  </a:lnTo>
                  <a:arcTo wR="3600" hR="3600" stAng="10800000" swAng="-5400000"/>
                  <a:lnTo>
                    <a:pt x="18000" y="587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36960" y="2922480"/>
              <a:ext cx="101520" cy="277920"/>
            </a:xfrm>
            <a:custGeom>
              <a:avLst/>
              <a:gdLst>
                <a:gd name="textAreaLeft" fmla="*/ 4680 w 101520"/>
                <a:gd name="textAreaRight" fmla="*/ 96840 w 101520"/>
                <a:gd name="textAreaTop" fmla="*/ 4680 h 277920"/>
                <a:gd name="textAreaBottom" fmla="*/ 273240 h 277920"/>
              </a:gdLst>
              <a:ahLst/>
              <a:rect l="textAreaLeft" t="textAreaTop" r="textAreaRight" b="textAreaBottom"/>
              <a:pathLst>
                <a:path w="21600" h="58999">
                  <a:moveTo>
                    <a:pt x="3600" y="0"/>
                  </a:moveTo>
                  <a:arcTo wR="3600" hR="3600" stAng="16200000" swAng="-5400000"/>
                  <a:lnTo>
                    <a:pt x="0" y="55399"/>
                  </a:lnTo>
                  <a:arcTo wR="3600" hR="3600" stAng="10800000" swAng="-5400000"/>
                  <a:lnTo>
                    <a:pt x="18000" y="58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43200" y="1752480"/>
              <a:ext cx="1676520" cy="609840"/>
            </a:xfrm>
            <a:prstGeom prst="downArrowCallout">
              <a:avLst>
                <a:gd name="adj1" fmla="val 68734"/>
                <a:gd name="adj2" fmla="val 68728"/>
                <a:gd name="adj3" fmla="val 16667"/>
                <a:gd name="adj4" fmla="val 6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attiv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asu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95720" y="1752480"/>
              <a:ext cx="1331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5mo-16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ior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620360" y="9144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Zi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320" y="5553000"/>
            <a:ext cx="8915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inattivazione del cromosoma X avviene intorno al15mo-16mo giorno dell’embriogenesi (l’embrione e’composto di circa 5000 cellule). Una volta che un cromosoma X (materno o paterno) e’ stato inattivato lo sara’ in tutte le popolazioni cellulari che derivano da quella cell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494" name="" descr=""/>
            <p:cNvPicPr/>
            <p:nvPr/>
          </p:nvPicPr>
          <p:blipFill>
            <a:blip r:embed="rId70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752480" y="1365120"/>
            <a:ext cx="6242040" cy="5187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514600" y="26193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09680" y="2209680"/>
            <a:ext cx="3668760" cy="3362040"/>
            <a:chOff x="2209680" y="2209680"/>
            <a:chExt cx="3668760" cy="3362040"/>
          </a:xfrm>
        </p:grpSpPr>
        <p:sp>
          <p:nvSpPr>
            <p:cNvPr id="502" name=""/>
            <p:cNvSpPr/>
            <p:nvPr/>
          </p:nvSpPr>
          <p:spPr>
            <a:xfrm>
              <a:off x="2209680" y="5571720"/>
              <a:ext cx="423000" cy="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78440" y="2209680"/>
              <a:ext cx="0" cy="50400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20040" y="3554640"/>
              <a:ext cx="0" cy="50400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5384160" y="4899240"/>
              <a:ext cx="282240" cy="336240"/>
            </a:xfrm>
            <a:prstGeom prst="line">
              <a:avLst/>
            </a:prstGeom>
            <a:ln w="28440">
              <a:solidFill>
                <a:srgbClr val="fe2c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49X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0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Compensazione del dosaggio nei mammif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143840" cy="51451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1219320" y="4262400"/>
            <a:ext cx="2971800" cy="259560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17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d181e"/>
                </a:solidFill>
                <a:latin typeface="Comic Sans MS"/>
              </a:rPr>
              <a:t>Genesi del gatto calic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9134640" cy="441648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2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6320" y="1905120"/>
            <a:ext cx="89154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62 Beutler evidenzia la presenza di due tipi di globuli rossi in femmine eterozigoti per deficienze X-linked per la glucosio-6-fosfato deidrogenasi. Lo stesso mosaicismo e’ presente ne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broblasti anche per altri ge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V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432480" y="60948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3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09480" y="3809880"/>
            <a:ext cx="3657600" cy="2860920"/>
            <a:chOff x="609480" y="3809880"/>
            <a:chExt cx="3657600" cy="2860920"/>
          </a:xfrm>
        </p:grpSpPr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609480" y="3809880"/>
              <a:ext cx="3657600" cy="28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3020760" y="4038480"/>
              <a:ext cx="101772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6PD +/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952880" y="3809880"/>
            <a:ext cx="3657600" cy="2851200"/>
            <a:chOff x="4952880" y="3809880"/>
            <a:chExt cx="3657600" cy="2851200"/>
          </a:xfrm>
        </p:grpSpPr>
        <p:pic>
          <p:nvPicPr>
            <p:cNvPr id="543" name="" descr=""/>
            <p:cNvPicPr/>
            <p:nvPr/>
          </p:nvPicPr>
          <p:blipFill>
            <a:blip r:embed="rId4"/>
            <a:stretch/>
          </p:blipFill>
          <p:spPr>
            <a:xfrm>
              <a:off x="4952880" y="3809880"/>
              <a:ext cx="365760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5173920" y="3886200"/>
              <a:ext cx="1119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PRT +/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81e"/>
                </a:solidFill>
                <a:latin typeface="Comic Sans MS"/>
              </a:rPr>
              <a:t>Geni X lin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5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78760" y="1447920"/>
            <a:ext cx="7786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a G6PD e’ un enzima del catabolismo degli zuccher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e femmine producono la stessa quantita’ dei masch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5400" y="2971800"/>
            <a:ext cx="8434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Gli individui XXY e XXX producono la stessa quantita’ deg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ndividui cariotipicamente norma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4720" y="4267080"/>
            <a:ext cx="85672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’ possibile evidenziare due varianti della G6PD su gel d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proteine: variante lenta e veloce. Dal momento che 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enotipo e’ cellulare si possono ottenere colture che derivan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da una singola cellula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914400" y="2743200"/>
            <a:ext cx="3657600" cy="3886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90960" y="990720"/>
            <a:ext cx="2819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0"/>
                </a:solidFill>
                <a:latin typeface="Comic Sans MS"/>
              </a:rPr>
              <a:t>G6P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3200400" cy="3859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219320" y="2819520"/>
            <a:ext cx="53820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33680" y="2819520"/>
            <a:ext cx="53820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05200" y="2819520"/>
            <a:ext cx="53820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85520" y="1600200"/>
            <a:ext cx="1159200" cy="3200400"/>
            <a:chOff x="3485520" y="1600200"/>
            <a:chExt cx="1159200" cy="3200400"/>
          </a:xfrm>
        </p:grpSpPr>
        <p:sp>
          <p:nvSpPr>
            <p:cNvPr id="562" name=""/>
            <p:cNvSpPr/>
            <p:nvPr/>
          </p:nvSpPr>
          <p:spPr>
            <a:xfrm>
              <a:off x="3962520" y="25146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85520" y="1600200"/>
              <a:ext cx="11592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singol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5200" y="4724280"/>
              <a:ext cx="538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81280" y="2286000"/>
              <a:ext cx="914400" cy="380880"/>
            </a:xfrm>
            <a:prstGeom prst="flowChartMagneticDisk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81280" y="2438280"/>
              <a:ext cx="228600" cy="152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09880" y="23623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38480" y="23623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9880" y="2438280"/>
              <a:ext cx="228600" cy="152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22860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67080" y="2438280"/>
              <a:ext cx="228600" cy="152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9880" y="22860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964080" y="1600200"/>
            <a:ext cx="1104120" cy="3200400"/>
            <a:chOff x="964080" y="1600200"/>
            <a:chExt cx="1104120" cy="3200400"/>
          </a:xfrm>
        </p:grpSpPr>
        <p:sp>
          <p:nvSpPr>
            <p:cNvPr id="574" name=""/>
            <p:cNvSpPr/>
            <p:nvPr/>
          </p:nvSpPr>
          <p:spPr>
            <a:xfrm>
              <a:off x="1066680" y="2286000"/>
              <a:ext cx="914400" cy="380880"/>
            </a:xfrm>
            <a:prstGeom prst="flowChartMagneticDisk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066680" y="2438280"/>
              <a:ext cx="228600" cy="15264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95280" y="241308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3880" y="2362320"/>
              <a:ext cx="228600" cy="15228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25146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00200" y="22860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52480" y="2438280"/>
              <a:ext cx="228600" cy="152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95280" y="22860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00200" y="251460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19320" y="3809880"/>
              <a:ext cx="538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4724280"/>
              <a:ext cx="538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47920" y="2514600"/>
              <a:ext cx="228600" cy="15228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64080" y="1600200"/>
              <a:ext cx="1104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213640" y="1600200"/>
            <a:ext cx="1159200" cy="2286000"/>
            <a:chOff x="2213640" y="1600200"/>
            <a:chExt cx="1159200" cy="2286000"/>
          </a:xfrm>
        </p:grpSpPr>
        <p:sp>
          <p:nvSpPr>
            <p:cNvPr id="588" name=""/>
            <p:cNvSpPr/>
            <p:nvPr/>
          </p:nvSpPr>
          <p:spPr>
            <a:xfrm>
              <a:off x="2309760" y="2286000"/>
              <a:ext cx="914400" cy="380880"/>
            </a:xfrm>
            <a:prstGeom prst="flowChartMagneticDisk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09760" y="2438280"/>
              <a:ext cx="228600" cy="15264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38360" y="236232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90640" y="251460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66960" y="236232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43280" y="228600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95560" y="2438280"/>
              <a:ext cx="228600" cy="15264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38360" y="2286000"/>
              <a:ext cx="228600" cy="15228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33680" y="3809880"/>
              <a:ext cx="5382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38360" y="2438280"/>
              <a:ext cx="228600" cy="152640"/>
            </a:xfrm>
            <a:prstGeom prst="irregularSeal1">
              <a:avLst/>
            </a:prstGeom>
            <a:solidFill>
              <a:srgbClr val="ff07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13640" y="1600200"/>
              <a:ext cx="11592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l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singol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800600" y="302256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9520" y="35877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200" y="44956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lo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45360" y="2581200"/>
            <a:ext cx="1253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r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g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7680" y="1143000"/>
            <a:ext cx="43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llule di donna eterozigote G6PDv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0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21b"/>
                </a:solidFill>
                <a:latin typeface="Comic Sans MS"/>
              </a:rPr>
              <a:t>Determinazione del sesso in </a:t>
            </a:r>
            <a:r>
              <a:rPr b="1" i="1" lang="it-IT" sz="2400" spc="-1" strike="noStrike">
                <a:solidFill>
                  <a:srgbClr val="ff021b"/>
                </a:solidFill>
                <a:latin typeface="Comic Sans MS"/>
              </a:rPr>
              <a:t>D.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9436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810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9200" y="1349280"/>
            <a:ext cx="65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umero di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Sets di 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apporto                fenotip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romosomi  X          autosomi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X/A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sess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280" y="2109960"/>
            <a:ext cx="7407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etafemmine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femmine norm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67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 intersesso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aschio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0.3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  metamaschio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triplo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2560" y="617220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* Intersessi , metafemmine e metamaschi sono ster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0"/>
            <a:ext cx="8915040" cy="6837120"/>
            <a:chOff x="76320" y="0"/>
            <a:chExt cx="8915040" cy="6837120"/>
          </a:xfrm>
        </p:grpSpPr>
        <p:pic>
          <p:nvPicPr>
            <p:cNvPr id="5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14600" cy="8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5120" y="1166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6000" y="530280"/>
              <a:ext cx="808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4156200" y="75600"/>
              <a:ext cx="4835160" cy="39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560" y="65908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43080" y="1066680"/>
            <a:ext cx="6468120" cy="571680"/>
            <a:chOff x="343080" y="1066680"/>
            <a:chExt cx="6468120" cy="571680"/>
          </a:xfrm>
        </p:grpSpPr>
        <p:sp>
          <p:nvSpPr>
            <p:cNvPr id="611" name=""/>
            <p:cNvSpPr/>
            <p:nvPr/>
          </p:nvSpPr>
          <p:spPr>
            <a:xfrm>
              <a:off x="846720" y="1139760"/>
              <a:ext cx="59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Vengono inattivati tutti i geni della X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1"/>
            <a:stretch/>
          </p:blipFill>
          <p:spPr>
            <a:xfrm>
              <a:off x="343080" y="1066680"/>
              <a:ext cx="5839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"/>
          <p:cNvSpPr/>
          <p:nvPr/>
        </p:nvSpPr>
        <p:spPr>
          <a:xfrm>
            <a:off x="66600" y="1828800"/>
            <a:ext cx="90010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, inizialmente si riteneva che l’inatti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involgesse tutto il cromosoma, rimaneva percio’ aperto 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a delle anomalie fenotipiche dell XO e delle altre aneuploidie. Oggi sappiamo che non vengono inattivati i geni della regione pseudoautosomica:i geni di questa regione hanno un omologo sul cromosoma Y.Non vengono inattivati geni che hanno pseudogeni sul cromosoma Y, e altri geni per i quali non si conosce la ragione. Comunque il cromosoma X risulta inattivato al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710"/>
                </a:solidFill>
                <a:latin typeface="Comic Sans MS"/>
              </a:rPr>
              <a:t>L’ inattiv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000" y="5257800"/>
            <a:ext cx="90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casualita’ viene meno in presenza di traslocazioni X/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nattivazione si diffonde solo su uno dei seg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locati e a volte coinvolge anche l’autosoma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1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228600" y="1523880"/>
            <a:ext cx="8945640" cy="964800"/>
            <a:chOff x="228600" y="1523880"/>
            <a:chExt cx="8945640" cy="964800"/>
          </a:xfrm>
        </p:grpSpPr>
        <p:sp>
          <p:nvSpPr>
            <p:cNvPr id="623" name=""/>
            <p:cNvSpPr/>
            <p:nvPr/>
          </p:nvSpPr>
          <p:spPr>
            <a:xfrm>
              <a:off x="692280" y="1541520"/>
              <a:ext cx="848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llora c’e’ una  regione sul cromosoma X da cu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nizia l’inattivazione 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228600" y="1523880"/>
              <a:ext cx="58428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"/>
          <p:cNvSpPr/>
          <p:nvPr/>
        </p:nvSpPr>
        <p:spPr>
          <a:xfrm>
            <a:off x="148680" y="2733840"/>
            <a:ext cx="893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, la regione Xq13. In questa regione e’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entro di inattivazione Xic che agisce in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. Alla 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gli anni 60 si era a questo punto. Rimaneva da spieg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he’ si condensa, perche’ e’ late replicating, come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tiene e si diffonde il silenzi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800240" y="68544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L’ inattivazione</a:t>
            </a:r>
            <a:br>
              <a:rPr sz="2800"/>
            </a:br>
            <a:r>
              <a:rPr b="1" lang="en-US" sz="2000" spc="-1" strike="noStrike">
                <a:solidFill>
                  <a:srgbClr val="ff0710"/>
                </a:solidFill>
                <a:latin typeface="Comic Sans MS"/>
              </a:rPr>
              <a:t>dom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85800" y="5105520"/>
            <a:ext cx="7271280" cy="647640"/>
            <a:chOff x="685800" y="5105520"/>
            <a:chExt cx="7271280" cy="647640"/>
          </a:xfrm>
        </p:grpSpPr>
        <p:sp>
          <p:nvSpPr>
            <p:cNvPr id="629" name=""/>
            <p:cNvSpPr/>
            <p:nvPr/>
          </p:nvSpPr>
          <p:spPr>
            <a:xfrm>
              <a:off x="1204920" y="5105520"/>
              <a:ext cx="67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osa succede nelle traslocazioni X/A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2"/>
            <a:stretch/>
          </p:blipFill>
          <p:spPr>
            <a:xfrm>
              <a:off x="685800" y="5181480"/>
              <a:ext cx="5842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32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 flipH="1">
            <a:off x="4599720" y="2070000"/>
            <a:ext cx="163800" cy="725760"/>
          </a:xfrm>
          <a:prstGeom prst="can">
            <a:avLst>
              <a:gd name="adj" fmla="val 11365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038480" y="6854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L’ inattivazione</a:t>
            </a:r>
            <a:br>
              <a:rPr sz="2800"/>
            </a:br>
            <a:r>
              <a:rPr b="1" lang="en-US" sz="2000" spc="-1" strike="noStrike">
                <a:solidFill>
                  <a:srgbClr val="ff0710"/>
                </a:solidFill>
                <a:latin typeface="Comic Sans MS"/>
              </a:rPr>
              <a:t>le traslocazioni X/Autos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68440" y="3290760"/>
            <a:ext cx="210960" cy="776520"/>
          </a:xfrm>
          <a:prstGeom prst="can">
            <a:avLst>
              <a:gd name="adj" fmla="val 11365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0800000">
            <a:off x="568440" y="4277880"/>
            <a:ext cx="210960" cy="917640"/>
          </a:xfrm>
          <a:prstGeom prst="can">
            <a:avLst>
              <a:gd name="adj" fmla="val 11365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8440" y="4067280"/>
            <a:ext cx="210960" cy="210960"/>
          </a:xfrm>
          <a:prstGeom prst="octagon">
            <a:avLst>
              <a:gd name="adj" fmla="val 29287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97040" y="3714840"/>
            <a:ext cx="210960" cy="52056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0800000">
            <a:off x="1697040" y="4414680"/>
            <a:ext cx="210960" cy="78120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97040" y="4235400"/>
            <a:ext cx="210960" cy="17928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049480" y="3573360"/>
            <a:ext cx="210960" cy="1622520"/>
            <a:chOff x="2049480" y="3573360"/>
            <a:chExt cx="210960" cy="1622520"/>
          </a:xfrm>
        </p:grpSpPr>
        <p:sp>
          <p:nvSpPr>
            <p:cNvPr id="646" name=""/>
            <p:cNvSpPr/>
            <p:nvPr/>
          </p:nvSpPr>
          <p:spPr>
            <a:xfrm>
              <a:off x="2049480" y="3573360"/>
              <a:ext cx="210960" cy="66096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0800000">
              <a:off x="2049480" y="4413960"/>
              <a:ext cx="210960" cy="78192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49480" y="4234320"/>
              <a:ext cx="210960" cy="179280"/>
            </a:xfrm>
            <a:prstGeom prst="octagon">
              <a:avLst>
                <a:gd name="adj" fmla="val 2928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979560" y="3279600"/>
            <a:ext cx="210960" cy="1904760"/>
            <a:chOff x="979560" y="3279600"/>
            <a:chExt cx="210960" cy="1904760"/>
          </a:xfrm>
        </p:grpSpPr>
        <p:sp>
          <p:nvSpPr>
            <p:cNvPr id="650" name=""/>
            <p:cNvSpPr/>
            <p:nvPr/>
          </p:nvSpPr>
          <p:spPr>
            <a:xfrm>
              <a:off x="979560" y="3279600"/>
              <a:ext cx="210960" cy="77580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2c0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0800000">
              <a:off x="979560" y="4267080"/>
              <a:ext cx="210960" cy="91728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2c0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79560" y="4055400"/>
              <a:ext cx="210960" cy="211680"/>
            </a:xfrm>
            <a:prstGeom prst="octagon">
              <a:avLst>
                <a:gd name="adj" fmla="val 29287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 rot="10800000">
            <a:off x="966600" y="4578120"/>
            <a:ext cx="223560" cy="60300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7040" y="3352680"/>
            <a:ext cx="208080" cy="644760"/>
          </a:xfrm>
          <a:prstGeom prst="can">
            <a:avLst>
              <a:gd name="adj" fmla="val 32291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2840" y="5212800"/>
            <a:ext cx="15033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X  X/A    A/X 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01920" y="4349880"/>
            <a:ext cx="1339920" cy="14112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5400000">
            <a:off x="2719440" y="4314600"/>
            <a:ext cx="1904760" cy="1396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02160" y="3290760"/>
            <a:ext cx="704880" cy="141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07040" y="3362400"/>
            <a:ext cx="149040" cy="1440"/>
          </a:xfrm>
          <a:prstGeom prst="line">
            <a:avLst/>
          </a:prstGeom>
          <a:ln w="139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448240" y="2425680"/>
            <a:ext cx="162000" cy="48564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rot="10800000">
            <a:off x="4599360" y="3017520"/>
            <a:ext cx="163800" cy="857160"/>
          </a:xfrm>
          <a:prstGeom prst="can">
            <a:avLst>
              <a:gd name="adj" fmla="val 11365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9720" y="2806560"/>
            <a:ext cx="163800" cy="198720"/>
          </a:xfrm>
          <a:prstGeom prst="octagon">
            <a:avLst>
              <a:gd name="adj" fmla="val 29287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rot="10800000">
            <a:off x="5448240" y="3088800"/>
            <a:ext cx="162000" cy="73044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448240" y="2909880"/>
            <a:ext cx="162000" cy="1681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5791320" y="2313000"/>
            <a:ext cx="163440" cy="1515240"/>
            <a:chOff x="5791320" y="2313000"/>
            <a:chExt cx="163440" cy="1515240"/>
          </a:xfrm>
        </p:grpSpPr>
        <p:sp>
          <p:nvSpPr>
            <p:cNvPr id="666" name=""/>
            <p:cNvSpPr/>
            <p:nvPr/>
          </p:nvSpPr>
          <p:spPr>
            <a:xfrm flipH="1">
              <a:off x="5791320" y="2313000"/>
              <a:ext cx="163440" cy="61776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rot="10800000">
              <a:off x="5791320" y="3097800"/>
              <a:ext cx="163440" cy="73044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5791320" y="2930760"/>
              <a:ext cx="163440" cy="167400"/>
            </a:xfrm>
            <a:prstGeom prst="octagon">
              <a:avLst>
                <a:gd name="adj" fmla="val 2928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011200" y="2092320"/>
            <a:ext cx="164160" cy="1779120"/>
            <a:chOff x="5011200" y="2092320"/>
            <a:chExt cx="164160" cy="1779120"/>
          </a:xfrm>
        </p:grpSpPr>
        <p:sp>
          <p:nvSpPr>
            <p:cNvPr id="670" name=""/>
            <p:cNvSpPr/>
            <p:nvPr/>
          </p:nvSpPr>
          <p:spPr>
            <a:xfrm flipH="1">
              <a:off x="5010840" y="2092320"/>
              <a:ext cx="163800" cy="724680"/>
            </a:xfrm>
            <a:prstGeom prst="can">
              <a:avLst>
                <a:gd name="adj" fmla="val 1136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rot="10800000">
              <a:off x="5011200" y="3014640"/>
              <a:ext cx="163800" cy="856800"/>
            </a:xfrm>
            <a:prstGeom prst="can">
              <a:avLst>
                <a:gd name="adj" fmla="val 1136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010840" y="2817000"/>
              <a:ext cx="163800" cy="19764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H="1" rot="10800000">
            <a:off x="5010480" y="3322440"/>
            <a:ext cx="163800" cy="563400"/>
          </a:xfrm>
          <a:prstGeom prst="can">
            <a:avLst>
              <a:gd name="adj" fmla="val 1136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1844640"/>
            <a:ext cx="28260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02160" y="5267160"/>
            <a:ext cx="704880" cy="140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07040" y="5337000"/>
            <a:ext cx="149040" cy="1800"/>
          </a:xfrm>
          <a:prstGeom prst="line">
            <a:avLst/>
          </a:prstGeom>
          <a:ln w="139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5435640" y="4707000"/>
            <a:ext cx="163440" cy="48564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589640" y="4357800"/>
            <a:ext cx="163440" cy="725400"/>
          </a:xfrm>
          <a:prstGeom prst="can">
            <a:avLst>
              <a:gd name="adj" fmla="val 11365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rot="10800000">
            <a:off x="4589640" y="5298840"/>
            <a:ext cx="163440" cy="857160"/>
          </a:xfrm>
          <a:prstGeom prst="can">
            <a:avLst>
              <a:gd name="adj" fmla="val 11365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589640" y="5087880"/>
            <a:ext cx="163440" cy="198360"/>
          </a:xfrm>
          <a:prstGeom prst="octagon">
            <a:avLst>
              <a:gd name="adj" fmla="val 29287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rot="10800000">
            <a:off x="5435640" y="5370120"/>
            <a:ext cx="163440" cy="730440"/>
          </a:xfrm>
          <a:prstGeom prst="can">
            <a:avLst>
              <a:gd name="adj" fmla="val 1136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435640" y="5191200"/>
            <a:ext cx="163440" cy="168120"/>
          </a:xfrm>
          <a:prstGeom prst="octagon">
            <a:avLst>
              <a:gd name="adj" fmla="val 29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715000" y="4592520"/>
            <a:ext cx="163440" cy="1517040"/>
            <a:chOff x="5715000" y="4592520"/>
            <a:chExt cx="163440" cy="1517040"/>
          </a:xfrm>
        </p:grpSpPr>
        <p:sp>
          <p:nvSpPr>
            <p:cNvPr id="684" name=""/>
            <p:cNvSpPr/>
            <p:nvPr/>
          </p:nvSpPr>
          <p:spPr>
            <a:xfrm flipH="1">
              <a:off x="5715000" y="4592520"/>
              <a:ext cx="163440" cy="61848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rot="10800000">
              <a:off x="5715000" y="5378400"/>
              <a:ext cx="163440" cy="731160"/>
            </a:xfrm>
            <a:prstGeom prst="can">
              <a:avLst>
                <a:gd name="adj" fmla="val 113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715000" y="5211000"/>
              <a:ext cx="163440" cy="167400"/>
            </a:xfrm>
            <a:prstGeom prst="octagon">
              <a:avLst>
                <a:gd name="adj" fmla="val 2928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000760" y="4373640"/>
            <a:ext cx="163440" cy="1779120"/>
            <a:chOff x="5000760" y="4373640"/>
            <a:chExt cx="163440" cy="1779120"/>
          </a:xfrm>
        </p:grpSpPr>
        <p:sp>
          <p:nvSpPr>
            <p:cNvPr id="688" name=""/>
            <p:cNvSpPr/>
            <p:nvPr/>
          </p:nvSpPr>
          <p:spPr>
            <a:xfrm flipH="1">
              <a:off x="5000760" y="4373640"/>
              <a:ext cx="163440" cy="72468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2c0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10800000">
              <a:off x="5000760" y="5295960"/>
              <a:ext cx="163440" cy="85680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e2c0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000760" y="5098320"/>
              <a:ext cx="163440" cy="197640"/>
            </a:xfrm>
            <a:prstGeom prst="octagon">
              <a:avLst>
                <a:gd name="adj" fmla="val 29287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 flipH="1" rot="10800000">
            <a:off x="5000760" y="5608440"/>
            <a:ext cx="163440" cy="563400"/>
          </a:xfrm>
          <a:prstGeom prst="can">
            <a:avLst>
              <a:gd name="adj" fmla="val 1136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446080" y="4419720"/>
            <a:ext cx="152280" cy="514080"/>
          </a:xfrm>
          <a:prstGeom prst="can">
            <a:avLst>
              <a:gd name="adj" fmla="val 32291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18000" y="4208400"/>
            <a:ext cx="28260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60440" y="4047840"/>
            <a:ext cx="1358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Inattivazi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casuale dell’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00840" y="3290760"/>
            <a:ext cx="704880" cy="141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05720" y="3362400"/>
            <a:ext cx="14904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43600" y="5761080"/>
            <a:ext cx="704880" cy="139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05720" y="5830920"/>
            <a:ext cx="14112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76360" y="2397600"/>
            <a:ext cx="2314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ue copie Xp at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arte autosoma inat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5120" y="3147840"/>
            <a:ext cx="2256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orte della cellu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38640" y="4752720"/>
            <a:ext cx="2296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un cromosoma X  attiv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ue autosomi attiv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634800" y="5476320"/>
            <a:ext cx="24163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questo clone e’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l’unico che si ritro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3560" y="1374840"/>
            <a:ext cx="45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ic agisce in c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frammento fis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parato non puo’ inattiva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5449320" y="2057400"/>
            <a:ext cx="152280" cy="514440"/>
          </a:xfrm>
          <a:prstGeom prst="can">
            <a:avLst>
              <a:gd name="adj" fmla="val 32291"/>
            </a:avLst>
          </a:prstGeom>
          <a:gradFill rotWithShape="0">
            <a:gsLst>
              <a:gs pos="0">
                <a:srgbClr val="ffffff"/>
              </a:gs>
              <a:gs pos="5000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07" name="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1600200" cy="136836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343400" y="6094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L’ inattivazione</a:t>
            </a:r>
            <a:br>
              <a:rPr sz="2800"/>
            </a:br>
            <a:r>
              <a:rPr b="1" lang="en-US" sz="2000" spc="-1" strike="noStrike">
                <a:solidFill>
                  <a:srgbClr val="ff0710"/>
                </a:solidFill>
                <a:latin typeface="Comic Sans MS"/>
              </a:rPr>
              <a:t>X(isop), X(isoq) e X(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880" y="1447920"/>
            <a:ext cx="228600" cy="76176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0800000">
            <a:off x="380520" y="2437920"/>
            <a:ext cx="228600" cy="1600200"/>
          </a:xfrm>
          <a:prstGeom prst="can">
            <a:avLst>
              <a:gd name="adj" fmla="val 882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0880" y="2209680"/>
            <a:ext cx="228600" cy="228600"/>
          </a:xfrm>
          <a:prstGeom prst="flowChartMagneticDisk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1460520"/>
            <a:ext cx="228600" cy="76212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2209680"/>
            <a:ext cx="228600" cy="228600"/>
          </a:xfrm>
          <a:prstGeom prst="flowChartMagneticDisk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10800000">
            <a:off x="1447560" y="2437920"/>
            <a:ext cx="228600" cy="76212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76600" y="3352680"/>
            <a:ext cx="220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crom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 braccio c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on si ritrova 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91600" y="3978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0800000">
            <a:off x="3428640" y="2819160"/>
            <a:ext cx="228600" cy="1600200"/>
          </a:xfrm>
          <a:prstGeom prst="can">
            <a:avLst>
              <a:gd name="adj" fmla="val 882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29000" y="2590920"/>
            <a:ext cx="228600" cy="228600"/>
          </a:xfrm>
          <a:prstGeom prst="flowChartMagneticDisk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990720"/>
            <a:ext cx="228600" cy="1600200"/>
          </a:xfrm>
          <a:prstGeom prst="can">
            <a:avLst>
              <a:gd name="adj" fmla="val 882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0120" y="4419720"/>
            <a:ext cx="2235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crom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 braccio lu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pre inattiv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ndrome di Tur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10080" y="1905120"/>
            <a:ext cx="228600" cy="45720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0800000">
            <a:off x="5409720" y="2590560"/>
            <a:ext cx="228600" cy="1600200"/>
          </a:xfrm>
          <a:prstGeom prst="can">
            <a:avLst>
              <a:gd name="adj" fmla="val 882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10080" y="2362320"/>
            <a:ext cx="228600" cy="228600"/>
          </a:xfrm>
          <a:prstGeom prst="flowChartMagneticDisk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623840" y="4495680"/>
            <a:ext cx="2235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ccio c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pre inattiv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ndrome di Tur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48720" y="1828800"/>
            <a:ext cx="228600" cy="76212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ff0710"/>
              </a:gs>
              <a:gs pos="50000">
                <a:srgbClr val="ffffff"/>
              </a:gs>
              <a:gs pos="100000">
                <a:srgbClr val="ff07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10800000">
            <a:off x="7848360" y="2819160"/>
            <a:ext cx="228600" cy="609480"/>
          </a:xfrm>
          <a:prstGeom prst="can">
            <a:avLst>
              <a:gd name="adj" fmla="val 25518"/>
            </a:avLst>
          </a:prstGeom>
          <a:gradFill rotWithShape="0">
            <a:gsLst>
              <a:gs pos="0">
                <a:srgbClr val="ffffff"/>
              </a:gs>
              <a:gs pos="50000">
                <a:srgbClr val="ff071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848720" y="2590920"/>
            <a:ext cx="228600" cy="228600"/>
          </a:xfrm>
          <a:prstGeom prst="flowChartMagneticDisk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40640" y="3733920"/>
            <a:ext cx="2356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ccio lu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pre inattiv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 la delezione 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involge Xq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ndrome di Turn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121932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37" name="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267080" y="685440"/>
            <a:ext cx="3810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L’ inattivazione e l’eredita’ X-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066680" y="1371600"/>
            <a:ext cx="5867280" cy="3219480"/>
            <a:chOff x="1066680" y="1371600"/>
            <a:chExt cx="5867280" cy="3219480"/>
          </a:xfrm>
        </p:grpSpPr>
        <p:sp>
          <p:nvSpPr>
            <p:cNvPr id="744" name=""/>
            <p:cNvSpPr/>
            <p:nvPr/>
          </p:nvSpPr>
          <p:spPr>
            <a:xfrm>
              <a:off x="1066680" y="1390680"/>
              <a:ext cx="5867280" cy="320040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no dei due cromosomi X present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ella linea somatica femminile, vie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ecocemente inattivato durante l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viluppo embrionale. L’inattivazione e’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asuale. Come risultato la femmina e’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n mosaico di cellule funzionalmen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miziogoti per uno o l’altro de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i 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3360" y="1371600"/>
              <a:ext cx="28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potesi di Mary Ly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380880" y="45720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femmina portatrice di una patologia X-linked e’ “protetta” dalla presenza nel 50% delle sue cellul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gene funzionante. L’inattivazione non casuale di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a X per effetto di un riarrangiamento puo’ aiutare a clonare un gene malat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4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610000" y="1430280"/>
            <a:ext cx="4933800" cy="48942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4952880" y="3962520"/>
            <a:ext cx="282600" cy="336600"/>
          </a:xfrm>
          <a:prstGeom prst="line">
            <a:avLst/>
          </a:prstGeom>
          <a:ln w="28440">
            <a:solidFill>
              <a:srgbClr val="fe2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1905120"/>
            <a:ext cx="280800" cy="336600"/>
          </a:xfrm>
          <a:prstGeom prst="line">
            <a:avLst/>
          </a:prstGeom>
          <a:ln w="28440">
            <a:solidFill>
              <a:srgbClr val="fe2c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Traslocazione X/Autos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5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76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263520" y="1600200"/>
            <a:ext cx="888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umero dei corpi di Barr in individui affetti da alterazioni del numero dei cromosomi sessuli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2280" y="3809880"/>
            <a:ext cx="8690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‘INATTIVAZIONE DELLA X PROCEDE IN MODO DIFFERENTE NELLE CELLULE SOMATICHE E NELLE CELLULE GERMINA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083960" y="2438280"/>
            <a:ext cx="6406200" cy="858600"/>
            <a:chOff x="1083960" y="2438280"/>
            <a:chExt cx="6406200" cy="858600"/>
          </a:xfrm>
        </p:grpSpPr>
        <p:sp>
          <p:nvSpPr>
            <p:cNvPr id="771" name=""/>
            <p:cNvSpPr/>
            <p:nvPr/>
          </p:nvSpPr>
          <p:spPr>
            <a:xfrm>
              <a:off x="1083960" y="2852640"/>
              <a:ext cx="6406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TUTTE LE X ECCETTO UNA, SONO INATTIVAT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5400000">
              <a:off x="4076640" y="2476440"/>
              <a:ext cx="533520" cy="45720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6320" y="5029200"/>
            <a:ext cx="8991360" cy="1505160"/>
            <a:chOff x="76320" y="5029200"/>
            <a:chExt cx="8991360" cy="1505160"/>
          </a:xfrm>
        </p:grpSpPr>
        <p:sp>
          <p:nvSpPr>
            <p:cNvPr id="774" name=""/>
            <p:cNvSpPr/>
            <p:nvPr/>
          </p:nvSpPr>
          <p:spPr>
            <a:xfrm>
              <a:off x="76320" y="5389560"/>
              <a:ext cx="899136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Entrambi i cromosomi X sono attivi nelle cellule germinali femminili, mentre il cromosoma X delle cellule germinali maschili e’ inattiv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4229280" y="4762440"/>
              <a:ext cx="380880" cy="914400"/>
            </a:xfrm>
            <a:custGeom>
              <a:avLst/>
              <a:gdLst>
                <a:gd name="textAreaLeft" fmla="*/ 81720 w 380880"/>
                <a:gd name="textAreaRight" fmla="*/ 299160 w 380880"/>
                <a:gd name="textAreaTop" fmla="*/ 280800 h 914400"/>
                <a:gd name="textAreaBottom" fmla="*/ 633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637"/>
                  </a:moveTo>
                  <a:lnTo>
                    <a:pt x="9539" y="6637"/>
                  </a:lnTo>
                  <a:lnTo>
                    <a:pt x="9539" y="0"/>
                  </a:lnTo>
                  <a:lnTo>
                    <a:pt x="21600" y="10800"/>
                  </a:lnTo>
                  <a:lnTo>
                    <a:pt x="9539" y="21600"/>
                  </a:lnTo>
                  <a:lnTo>
                    <a:pt x="9539" y="14963"/>
                  </a:lnTo>
                  <a:lnTo>
                    <a:pt x="0" y="14963"/>
                  </a:lnTo>
                  <a:lnTo>
                    <a:pt x="4649" y="10800"/>
                  </a:lnTo>
                  <a:lnTo>
                    <a:pt x="0" y="6637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NATTIVAZIONE DEL CROMOSOMA X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I tre tipi di croma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7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06440" y="1600200"/>
            <a:ext cx="74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ucromatina: regioni che contengono g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crizionalmente attivi. E’ early replic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2920" y="3048120"/>
            <a:ext cx="89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cromatina costitutiva: regioni che conteng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ltamente ripetuto, con pochi geni trascrizional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ivi.Si colora in modo differenziale, e’ late replic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42920" y="48006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cromatina facoltativa: eucromatina in alcuni ti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ulari, eterocromatina in alt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Eterocromatina facol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8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0" y="15238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mette alla cellula di “spegnere” porzioni del gen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274320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caso del cromosoma X e’ un intero cromosoma nella sua quasi totalita’ ad essere sp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6600" y="3886200"/>
            <a:ext cx="892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questo caso il cromosoma assume oltre all’asp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zionale, anche quello conformazionale: e’ piu’ condensato: corpo di B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320" y="538164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nattivazione del cromosoma X e’ l’applicazione piu’ estesa di quel sistema di regolazione che oggi chiamiamo  IMPRI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Riattivazione del cromosoma X nelle fem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80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27080" y="18288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embrione con 2X le cellule che si differenzieranno in germinali lyonizzano insieme alle al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llo stadio in cui l’inattivazione si verifica, non sono ancora differenziate in oogoni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320" y="35812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o la differenziazione in feto femminile inizi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genesi: il cromosoma X inattivo viene atti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6320" y="502920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gni uovo prodotto ha un cromosoma X attivo prima della ferti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21b"/>
                </a:solidFill>
                <a:latin typeface="Comic Sans MS"/>
              </a:rPr>
              <a:t>Determinazione del sesso in D. melanogaster  rapporto X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18120" y="3429000"/>
            <a:ext cx="844200" cy="761760"/>
            <a:chOff x="1518120" y="3429000"/>
            <a:chExt cx="844200" cy="761760"/>
          </a:xfrm>
        </p:grpSpPr>
        <p:sp>
          <p:nvSpPr>
            <p:cNvPr id="65" name=""/>
            <p:cNvSpPr/>
            <p:nvPr/>
          </p:nvSpPr>
          <p:spPr>
            <a:xfrm>
              <a:off x="1523880" y="3429000"/>
              <a:ext cx="83844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09960" y="3679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84480" y="3682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4320" y="3657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8840" y="36604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9900000">
              <a:off x="1676160" y="36572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9900000">
              <a:off x="1750680" y="36597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9900000">
              <a:off x="1550160" y="36349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9900000">
              <a:off x="1625400" y="36381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71560" y="346068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308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90800" y="34671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2320" y="347328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436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1772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8108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585520" y="3429000"/>
            <a:ext cx="843480" cy="761760"/>
            <a:chOff x="2585520" y="3429000"/>
            <a:chExt cx="843480" cy="761760"/>
          </a:xfrm>
        </p:grpSpPr>
        <p:sp>
          <p:nvSpPr>
            <p:cNvPr id="82" name=""/>
            <p:cNvSpPr/>
            <p:nvPr/>
          </p:nvSpPr>
          <p:spPr>
            <a:xfrm>
              <a:off x="2590920" y="342900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76640" y="3679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51160" y="368280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51360" y="3657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5880" y="36604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9900000">
              <a:off x="2742480" y="365724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9900000">
              <a:off x="2817000" y="365976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9900000">
              <a:off x="2617560" y="36349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9900000">
              <a:off x="2692080" y="36381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38600" y="34606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012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7480" y="3467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59360" y="347328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2104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8440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8120" y="3987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11480" y="3987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343400" y="2336760"/>
            <a:ext cx="838080" cy="761760"/>
            <a:chOff x="4343400" y="2336760"/>
            <a:chExt cx="838080" cy="761760"/>
          </a:xfrm>
        </p:grpSpPr>
        <p:sp>
          <p:nvSpPr>
            <p:cNvPr id="100" name=""/>
            <p:cNvSpPr/>
            <p:nvPr/>
          </p:nvSpPr>
          <p:spPr>
            <a:xfrm>
              <a:off x="4343400" y="233676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29120" y="258732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3840" y="256536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8360" y="25682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900000">
              <a:off x="4494960" y="25650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9900000">
              <a:off x="4570200" y="256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9900000">
              <a:off x="4444200" y="25459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91080" y="2368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92600" y="23749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9960" y="23749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73520" y="289548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37240" y="289548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0600" y="289548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38000" y="1295280"/>
            <a:ext cx="843480" cy="761760"/>
            <a:chOff x="4338000" y="1295280"/>
            <a:chExt cx="843480" cy="761760"/>
          </a:xfrm>
        </p:grpSpPr>
        <p:sp>
          <p:nvSpPr>
            <p:cNvPr id="114" name=""/>
            <p:cNvSpPr/>
            <p:nvPr/>
          </p:nvSpPr>
          <p:spPr>
            <a:xfrm>
              <a:off x="4343400" y="129528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9120" y="15458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3640" y="15490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15238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15267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9900000">
              <a:off x="4494960" y="15235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00000">
              <a:off x="4569480" y="152604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9900000">
              <a:off x="4370040" y="15012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900000">
              <a:off x="4444560" y="15044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91080" y="13269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92600" y="1333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9960" y="13334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11840" y="133956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7352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3688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18540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63960" y="185400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343400" y="3429000"/>
            <a:ext cx="838080" cy="761760"/>
            <a:chOff x="4343400" y="3429000"/>
            <a:chExt cx="838080" cy="761760"/>
          </a:xfrm>
        </p:grpSpPr>
        <p:sp>
          <p:nvSpPr>
            <p:cNvPr id="132" name=""/>
            <p:cNvSpPr/>
            <p:nvPr/>
          </p:nvSpPr>
          <p:spPr>
            <a:xfrm>
              <a:off x="4343400" y="3429000"/>
              <a:ext cx="83808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0600" y="36925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75120" y="369576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9900000">
              <a:off x="4524120" y="367884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9900000">
              <a:off x="4598640" y="36820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92600" y="34797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9960" y="34797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37240" y="40003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40003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43400" y="4495680"/>
            <a:ext cx="838080" cy="762120"/>
            <a:chOff x="4343400" y="4495680"/>
            <a:chExt cx="838080" cy="762120"/>
          </a:xfrm>
        </p:grpSpPr>
        <p:sp>
          <p:nvSpPr>
            <p:cNvPr id="142" name=""/>
            <p:cNvSpPr/>
            <p:nvPr/>
          </p:nvSpPr>
          <p:spPr>
            <a:xfrm>
              <a:off x="434340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0600" y="4746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9900000">
              <a:off x="4598640" y="47368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24280" y="457200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4280" y="5054760"/>
              <a:ext cx="1764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590920" y="4495680"/>
            <a:ext cx="838080" cy="762120"/>
            <a:chOff x="2590920" y="4495680"/>
            <a:chExt cx="838080" cy="762120"/>
          </a:xfrm>
        </p:grpSpPr>
        <p:sp>
          <p:nvSpPr>
            <p:cNvPr id="148" name=""/>
            <p:cNvSpPr/>
            <p:nvPr/>
          </p:nvSpPr>
          <p:spPr>
            <a:xfrm>
              <a:off x="259092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76640" y="474660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51000" y="47242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880" y="472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9900000">
              <a:off x="2742840" y="47235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9900000">
              <a:off x="2817000" y="472680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9900000">
              <a:off x="2692080" y="47044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452772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40120" y="453384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748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84400" y="5054760"/>
              <a:ext cx="1764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5054760"/>
              <a:ext cx="1728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523880" y="4521240"/>
            <a:ext cx="838440" cy="761760"/>
            <a:chOff x="1523880" y="4521240"/>
            <a:chExt cx="838440" cy="761760"/>
          </a:xfrm>
        </p:grpSpPr>
        <p:sp>
          <p:nvSpPr>
            <p:cNvPr id="161" name=""/>
            <p:cNvSpPr/>
            <p:nvPr/>
          </p:nvSpPr>
          <p:spPr>
            <a:xfrm>
              <a:off x="1523880" y="4521240"/>
              <a:ext cx="838440" cy="761760"/>
            </a:xfrm>
            <a:prstGeom prst="octagon">
              <a:avLst>
                <a:gd name="adj" fmla="val 2928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81160" y="4746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1080" y="472752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9900000">
              <a:off x="1703160" y="476316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9900000">
              <a:off x="1596240" y="47440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44640" y="45338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62000" y="453384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9280" y="50544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7200" y="4495680"/>
            <a:ext cx="838080" cy="762120"/>
            <a:chOff x="457200" y="4495680"/>
            <a:chExt cx="838080" cy="762120"/>
          </a:xfrm>
        </p:grpSpPr>
        <p:sp>
          <p:nvSpPr>
            <p:cNvPr id="170" name=""/>
            <p:cNvSpPr/>
            <p:nvPr/>
          </p:nvSpPr>
          <p:spPr>
            <a:xfrm>
              <a:off x="45720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2920" y="474660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7640" y="47242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2160" y="472752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9900000">
              <a:off x="608760" y="472356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9900000">
              <a:off x="684000" y="4726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9900000">
              <a:off x="558000" y="4704480"/>
              <a:ext cx="12564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880" y="452772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640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3760" y="4533840"/>
              <a:ext cx="4140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1040" y="5054760"/>
              <a:ext cx="17280" cy="17748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454880" y="4495680"/>
            <a:ext cx="838080" cy="781200"/>
            <a:chOff x="7454880" y="4495680"/>
            <a:chExt cx="838080" cy="781200"/>
          </a:xfrm>
        </p:grpSpPr>
        <p:sp>
          <p:nvSpPr>
            <p:cNvPr id="182" name=""/>
            <p:cNvSpPr/>
            <p:nvPr/>
          </p:nvSpPr>
          <p:spPr>
            <a:xfrm>
              <a:off x="745488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15120" y="474984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45280" y="476568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9900000">
              <a:off x="7530120" y="4746600"/>
              <a:ext cx="12492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9900000">
              <a:off x="7605000" y="474948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53040" y="45784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400" y="45784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33960" y="509904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97680" y="5099040"/>
              <a:ext cx="1692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61040" y="509904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603840" y="4495680"/>
            <a:ext cx="838080" cy="762120"/>
            <a:chOff x="6603840" y="4495680"/>
            <a:chExt cx="838080" cy="762120"/>
          </a:xfrm>
        </p:grpSpPr>
        <p:sp>
          <p:nvSpPr>
            <p:cNvPr id="193" name=""/>
            <p:cNvSpPr/>
            <p:nvPr/>
          </p:nvSpPr>
          <p:spPr>
            <a:xfrm>
              <a:off x="6603840" y="4495680"/>
              <a:ext cx="838080" cy="762120"/>
            </a:xfrm>
            <a:prstGeom prst="octagon">
              <a:avLst>
                <a:gd name="adj" fmla="val 2928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38880" y="471492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3600" y="46926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88120" y="4695840"/>
              <a:ext cx="12528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9900000">
              <a:off x="6805080" y="469188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9900000">
              <a:off x="6879240" y="4695480"/>
              <a:ext cx="125640" cy="26496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9900000">
              <a:off x="6754320" y="4672800"/>
              <a:ext cx="125280" cy="265320"/>
            </a:xfrm>
            <a:custGeom>
              <a:avLst/>
              <a:gdLst/>
              <a:ahLst/>
              <a:rect l="l" t="t" r="r" b="b"/>
              <a:pathLst>
                <a:path w="79" h="167">
                  <a:moveTo>
                    <a:pt x="79" y="0"/>
                  </a:moveTo>
                  <a:cubicBezTo>
                    <a:pt x="50" y="28"/>
                    <a:pt x="23" y="47"/>
                    <a:pt x="0" y="80"/>
                  </a:cubicBezTo>
                  <a:cubicBezTo>
                    <a:pt x="7" y="100"/>
                    <a:pt x="20" y="143"/>
                    <a:pt x="39" y="151"/>
                  </a:cubicBezTo>
                  <a:cubicBezTo>
                    <a:pt x="52" y="156"/>
                    <a:pt x="79" y="167"/>
                    <a:pt x="79" y="16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00840" y="4495680"/>
              <a:ext cx="41040" cy="44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2360" y="450216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19720" y="4502160"/>
              <a:ext cx="4140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0"/>
                  </a:moveTo>
                  <a:cubicBezTo>
                    <a:pt x="9" y="28"/>
                    <a:pt x="0" y="26"/>
                    <a:pt x="20" y="20"/>
                  </a:cubicBezTo>
                  <a:cubicBezTo>
                    <a:pt x="26" y="1"/>
                    <a:pt x="17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83280" y="5022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46640" y="5022720"/>
              <a:ext cx="1764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10360" y="502272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08760" y="5029200"/>
              <a:ext cx="17280" cy="177840"/>
            </a:xfrm>
            <a:custGeom>
              <a:avLst/>
              <a:gdLst/>
              <a:ahLst/>
              <a:rect l="l" t="t" r="r" b="b"/>
              <a:pathLst>
                <a:path w="11" h="112">
                  <a:moveTo>
                    <a:pt x="0" y="0"/>
                  </a:moveTo>
                  <a:cubicBezTo>
                    <a:pt x="11" y="33"/>
                    <a:pt x="0" y="75"/>
                    <a:pt x="0" y="1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28600" y="579132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4984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99040" y="6054840"/>
            <a:ext cx="511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0                0.50                            1                             1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39000" y="3616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m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8160" y="53341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femm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41880" y="533412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s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3880" y="533412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ormale     masc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48560" y="53341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or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62000" y="5371920"/>
            <a:ext cx="218520" cy="228960"/>
            <a:chOff x="162000" y="5371920"/>
            <a:chExt cx="218520" cy="228960"/>
          </a:xfrm>
        </p:grpSpPr>
        <p:sp>
          <p:nvSpPr>
            <p:cNvPr id="220" name=""/>
            <p:cNvSpPr/>
            <p:nvPr/>
          </p:nvSpPr>
          <p:spPr>
            <a:xfrm>
              <a:off x="162000" y="5486400"/>
              <a:ext cx="114120" cy="114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66400" y="5371920"/>
              <a:ext cx="1141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91240" y="5372280"/>
            <a:ext cx="190440" cy="285120"/>
            <a:chOff x="6591240" y="5372280"/>
            <a:chExt cx="190440" cy="285120"/>
          </a:xfrm>
        </p:grpSpPr>
        <p:sp>
          <p:nvSpPr>
            <p:cNvPr id="223" name=""/>
            <p:cNvSpPr/>
            <p:nvPr/>
          </p:nvSpPr>
          <p:spPr>
            <a:xfrm>
              <a:off x="6629040" y="5372280"/>
              <a:ext cx="114120" cy="114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6640" y="5486400"/>
              <a:ext cx="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91240" y="55720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27" name="" descr=""/>
            <p:cNvPicPr/>
            <p:nvPr/>
          </p:nvPicPr>
          <p:blipFill>
            <a:blip r:embed="rId1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Riattivazione del cromosoma X nei maschi 47,X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81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127080" y="20574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embrione con 2X le cellule che si differenzieranno in germinali lyonizzano insieme alle al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llo stadio in cui l’inattivazione si verifica, non sono ancora differenziate in goni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6320" y="35812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o la differenziazione in feto maschile inizi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genesi: il cromosoma X inattivo viene atti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320" y="4952880"/>
            <a:ext cx="89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resenza di un cromosoma X sovranumerario provoca la morte cellulare delle cellule germinali e l’atrofia del testicolo, con conseguenti livelli bassi di testo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E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82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 txBox="1"/>
          <p:nvPr/>
        </p:nvSpPr>
        <p:spPr>
          <a:xfrm>
            <a:off x="457200" y="274320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Lucida Handwriting"/>
              </a:rPr>
              <a:t>TO BE CONTINUE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Compensazione del dosaggio in </a:t>
            </a:r>
            <a:r>
              <a:rPr b="1" i="1" lang="it-IT" sz="2800" spc="-1" strike="noStrike">
                <a:solidFill>
                  <a:srgbClr val="ff0602"/>
                </a:solidFill>
                <a:latin typeface="Comic Sans MS"/>
              </a:rPr>
              <a:t>Drosoph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131920"/>
            <a:ext cx="8778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ella femmina sono attivi entrambi i cromos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Nel maschio la compensazione del dosaggio avviene aumentando l’espressione genica dell’unico cromosoma X pres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aumento della trascrizione di mRNA porta a raggiungere il livello di espressione tipico di due cromoso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3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181e"/>
                </a:solidFill>
                <a:latin typeface="Comic Sans MS"/>
              </a:rPr>
              <a:t>I mammif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8280" y="1371600"/>
            <a:ext cx="85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omosomi sessuali: XX femmine, XY masch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90000" y="3733920"/>
            <a:ext cx="88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compensazione di dose e’ come in Drosophi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4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57200" y="1981080"/>
            <a:ext cx="84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i X linked: 2 nelle femmine, 1 nei masch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2120" y="2743200"/>
            <a:ext cx="7934760" cy="844200"/>
            <a:chOff x="762120" y="2743200"/>
            <a:chExt cx="7934760" cy="844200"/>
          </a:xfrm>
        </p:grpSpPr>
        <p:sp>
          <p:nvSpPr>
            <p:cNvPr id="251" name=""/>
            <p:cNvSpPr/>
            <p:nvPr/>
          </p:nvSpPr>
          <p:spPr>
            <a:xfrm>
              <a:off x="1362600" y="2743200"/>
              <a:ext cx="73342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Come produrre una uguale quantita’ di prodott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omic Sans MS"/>
                </a:rPr>
                <a:t>genico nei maschi e nelle femmine?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762120" y="2743200"/>
              <a:ext cx="86184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3455640" y="43434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" y="4876920"/>
            <a:ext cx="8618040" cy="1416960"/>
            <a:chOff x="228600" y="4876920"/>
            <a:chExt cx="8618040" cy="1416960"/>
          </a:xfrm>
        </p:grpSpPr>
        <p:sp>
          <p:nvSpPr>
            <p:cNvPr id="255" name=""/>
            <p:cNvSpPr/>
            <p:nvPr/>
          </p:nvSpPr>
          <p:spPr>
            <a:xfrm>
              <a:off x="537120" y="5257800"/>
              <a:ext cx="83095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Riduzione a meta’ del livello di espression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elle femmine: inattivando tutte le X meno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033560" cy="106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2971800"/>
            <a:ext cx="8935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53 Scoperti primi geni X-linked (tabby e mottled). Femmine eterozigoti mostravano variegazio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 flipH="1">
            <a:off x="7639200" y="533520"/>
            <a:ext cx="1123920" cy="1218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320" y="1378080"/>
            <a:ext cx="8935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49 Barr&amp;Bentram evidenziano nei neuroni di gat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na masserella alla periferia del nucleo. I maschi ne sono privi.     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4551480"/>
            <a:ext cx="8935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56 Tijo e Levan identificano il numero cromosomico dell’uomo e chiariscono che la femmina ha 46,XX e il maschio 46,X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6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51600" y="45720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775800" y="1752480"/>
            <a:ext cx="8224560" cy="1468080"/>
            <a:chOff x="775800" y="1752480"/>
            <a:chExt cx="8224560" cy="1468080"/>
          </a:xfrm>
        </p:grpSpPr>
        <p:sp>
          <p:nvSpPr>
            <p:cNvPr id="271" name=""/>
            <p:cNvSpPr/>
            <p:nvPr/>
          </p:nvSpPr>
          <p:spPr>
            <a:xfrm>
              <a:off x="775800" y="1752480"/>
              <a:ext cx="54979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50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1959 trovati topi XO femmine fertil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83160" y="2776320"/>
              <a:ext cx="8017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un cromosoma X e’ sufficiente per dare femmine normal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4762080" y="240012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30040" y="4724280"/>
            <a:ext cx="8913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59 Ohno ipotizza che il corpo di Barr sia la X “sovrannumeraria” nelle femmine.  Infatti nelle aneuploidie de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romosomi sessuali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0040" y="3429000"/>
            <a:ext cx="8913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959 Vengono identificate le anomalie numeriche dei cromosomi sessuali nell’uomo: 45,XO; 47,XXY; 47,XXX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7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6960" y="1523880"/>
            <a:ext cx="658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stitu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descrizion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numero 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romosomica        dell’individu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corpi di Ba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36232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6, X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normale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1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6, X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normale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5, 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     sindrome di Turner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7, XX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triplo 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8, XXX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tetra X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7, XX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sindrome di Klinefelter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8, XXX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sindrome di Klinefelter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8, XXY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sindrome di Klinefelter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47, XY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XYY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I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54380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8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00080" y="5562720"/>
            <a:ext cx="9043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1961 Russel trovo’ effetto di variegazioni in topi portatori di traslocazioni X-autosom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181e"/>
                </a:solidFill>
                <a:latin typeface="Comic Sans MS"/>
              </a:rPr>
              <a:t>Un po’ di storia.…(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263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9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2280" y="160020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1961 Mary Lyon formulo’ l’ipotesi che o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ta il suo nome (lyonizz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590920"/>
            <a:ext cx="87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erano accumulate alcune osservazio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335268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nuclei delle femmine e’ presente una masse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densata che corrisponde al numero delle X men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1148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 stesso fenomeno si osserva nei maschi XXY, ma non nelle femmine X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4876920"/>
            <a:ext cx="80769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cando con timidina triziata nella tarda fase S si osserva la presenza di un cromosoma fortemente marcato che per dimensioni ed aspetto corrisponde al cromosoma X solo nelle cellule con almeno 2 cromosomi X. Nella mula in cui i due cromosomi X si possono distinguere si inattivano alternativamente nel 50% dei c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0:07:01Z</dcterms:created>
  <dc:creator>Mariano Rocchi</dc:creator>
  <dc:description/>
  <dc:language>en-US</dc:language>
  <cp:lastModifiedBy>Mariano Rocchi</cp:lastModifiedBy>
  <dcterms:modified xsi:type="dcterms:W3CDTF">2005-01-05T08:44:47Z</dcterms:modified>
  <cp:revision>231</cp:revision>
  <dc:subject/>
  <dc:title>I mammiferi</dc:title>
</cp:coreProperties>
</file>